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DF5C8-914F-4AD7-A4C7-605DE1F955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FD0EC-7C9D-438E-9563-F95F25A1A6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34346-1A84-4129-B8E8-948BCA8A8B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2576C-A78C-47AA-AC7C-C812097A91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7702C-B6FB-4B54-9FAB-E7FE60FE79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4EFCA-2BFC-44BD-A82E-F365FA03AE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F66CA-1434-4C66-8FD9-85284733D9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B92ED-0C00-4901-9961-65AFB6887A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6ADBF-73F4-4971-8125-45D8FB611D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23132-BCAF-41F2-A40D-A000DA38DB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C7192-299E-4D48-B7F1-8405ED07EB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A4F63-AC05-4709-AAD1-2D90839BD8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81BD-8369-48E9-90C2-4114E5800B07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0538972556_L" descr="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0538972556_L" descr="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3399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3399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7-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6319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Preparing an </a:t>
            </a:r>
            <a:br>
              <a:rPr sz="4000"/>
            </a:b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Income Statemen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ME STATEMENT INFORMATION ON A WORK SH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C21_blue_0701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458200" cy="3725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18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-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2DA7E-CBDF-458C-8677-4A4B31F336C2}" type="slidenum">
              <a:t>2</a:t>
            </a:fld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DING OF AN INCOME STAT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C21_blue_0702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2428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629400" y="18892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244332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0120" y="30322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18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42670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er the name of the company on the first 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62744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er the name of the report on the second 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49878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er the date of the report on the third 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-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74B6E-170E-4AAE-B9C8-DB109DA49DBC}" type="slidenum">
              <a:t>3</a:t>
            </a:fld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057400" y="1981080"/>
            <a:ext cx="5028840" cy="2819520"/>
            <a:chOff x="2057400" y="1981080"/>
            <a:chExt cx="5028840" cy="2819520"/>
          </a:xfrm>
        </p:grpSpPr>
        <p:pic>
          <p:nvPicPr>
            <p:cNvPr id="103" name="C21_blue_0703" descr=""/>
            <p:cNvPicPr/>
            <p:nvPr/>
          </p:nvPicPr>
          <p:blipFill>
            <a:blip r:embed="rId1"/>
            <a:srcRect l="0" t="0" r="64907" b="0"/>
            <a:stretch/>
          </p:blipFill>
          <p:spPr>
            <a:xfrm>
              <a:off x="2057400" y="1981080"/>
              <a:ext cx="2212560" cy="281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C21_blue_0703" descr=""/>
            <p:cNvPicPr/>
            <p:nvPr/>
          </p:nvPicPr>
          <p:blipFill>
            <a:blip r:embed="rId2"/>
            <a:srcRect l="56386" t="0" r="0" b="0"/>
            <a:stretch/>
          </p:blipFill>
          <p:spPr>
            <a:xfrm>
              <a:off x="4337280" y="1981080"/>
              <a:ext cx="274896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ENUE, EXPENSES, AND NET INCOME SECTIONS OF AN INCOME STAT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page 1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717480" y="2106720"/>
            <a:ext cx="1492200" cy="368280"/>
            <a:chOff x="717480" y="2106720"/>
            <a:chExt cx="1492200" cy="368280"/>
          </a:xfrm>
        </p:grpSpPr>
        <p:sp>
          <p:nvSpPr>
            <p:cNvPr id="108" name=""/>
            <p:cNvSpPr/>
            <p:nvPr/>
          </p:nvSpPr>
          <p:spPr>
            <a:xfrm>
              <a:off x="1888920" y="2129040"/>
              <a:ext cx="320760" cy="3204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7480" y="2106720"/>
              <a:ext cx="1092240" cy="36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ven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6477120" y="2376360"/>
            <a:ext cx="2348640" cy="368280"/>
            <a:chOff x="6477120" y="2376360"/>
            <a:chExt cx="2348640" cy="368280"/>
          </a:xfrm>
        </p:grpSpPr>
        <p:sp>
          <p:nvSpPr>
            <p:cNvPr id="111" name=""/>
            <p:cNvSpPr/>
            <p:nvPr/>
          </p:nvSpPr>
          <p:spPr>
            <a:xfrm>
              <a:off x="6477120" y="2398680"/>
              <a:ext cx="320400" cy="320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909120" y="2376360"/>
              <a:ext cx="1916640" cy="36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venue amou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28200" y="2529000"/>
            <a:ext cx="1581480" cy="368280"/>
            <a:chOff x="628200" y="2529000"/>
            <a:chExt cx="1581480" cy="368280"/>
          </a:xfrm>
        </p:grpSpPr>
        <p:sp>
          <p:nvSpPr>
            <p:cNvPr id="114" name=""/>
            <p:cNvSpPr/>
            <p:nvPr/>
          </p:nvSpPr>
          <p:spPr>
            <a:xfrm>
              <a:off x="1888920" y="2551320"/>
              <a:ext cx="320760" cy="3204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28200" y="2529000"/>
              <a:ext cx="1181880" cy="36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pen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72160" y="3522600"/>
            <a:ext cx="1937520" cy="368280"/>
            <a:chOff x="272160" y="3522600"/>
            <a:chExt cx="1937520" cy="368280"/>
          </a:xfrm>
        </p:grpSpPr>
        <p:sp>
          <p:nvSpPr>
            <p:cNvPr id="117" name=""/>
            <p:cNvSpPr/>
            <p:nvPr/>
          </p:nvSpPr>
          <p:spPr>
            <a:xfrm>
              <a:off x="1889280" y="3544920"/>
              <a:ext cx="320400" cy="320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2160" y="3522600"/>
              <a:ext cx="1538640" cy="36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count tit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5638680" y="3522600"/>
            <a:ext cx="2323800" cy="368280"/>
            <a:chOff x="5638680" y="3522600"/>
            <a:chExt cx="2323800" cy="368280"/>
          </a:xfrm>
        </p:grpSpPr>
        <p:sp>
          <p:nvSpPr>
            <p:cNvPr id="120" name=""/>
            <p:cNvSpPr/>
            <p:nvPr/>
          </p:nvSpPr>
          <p:spPr>
            <a:xfrm>
              <a:off x="5638680" y="3544920"/>
              <a:ext cx="320400" cy="320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70320" y="3522600"/>
              <a:ext cx="1892160" cy="36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pense amou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82080" y="3962520"/>
            <a:ext cx="2127600" cy="368280"/>
            <a:chOff x="82080" y="3962520"/>
            <a:chExt cx="2127600" cy="368280"/>
          </a:xfrm>
        </p:grpSpPr>
        <p:sp>
          <p:nvSpPr>
            <p:cNvPr id="123" name=""/>
            <p:cNvSpPr/>
            <p:nvPr/>
          </p:nvSpPr>
          <p:spPr>
            <a:xfrm>
              <a:off x="1889280" y="3984480"/>
              <a:ext cx="320400" cy="320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2080" y="3962520"/>
              <a:ext cx="1727640" cy="36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tal expen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477120" y="3962520"/>
            <a:ext cx="2413080" cy="368280"/>
            <a:chOff x="6477120" y="3962520"/>
            <a:chExt cx="2413080" cy="368280"/>
          </a:xfrm>
        </p:grpSpPr>
        <p:sp>
          <p:nvSpPr>
            <p:cNvPr id="126" name=""/>
            <p:cNvSpPr/>
            <p:nvPr/>
          </p:nvSpPr>
          <p:spPr>
            <a:xfrm>
              <a:off x="6477120" y="3984480"/>
              <a:ext cx="320400" cy="3204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908040" y="3962520"/>
              <a:ext cx="1982160" cy="36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tal of expen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900080" y="4495680"/>
            <a:ext cx="1747440" cy="368280"/>
            <a:chOff x="1900080" y="4495680"/>
            <a:chExt cx="1747440" cy="368280"/>
          </a:xfrm>
        </p:grpSpPr>
        <p:sp>
          <p:nvSpPr>
            <p:cNvPr id="129" name=""/>
            <p:cNvSpPr/>
            <p:nvPr/>
          </p:nvSpPr>
          <p:spPr>
            <a:xfrm>
              <a:off x="1900080" y="4518000"/>
              <a:ext cx="320760" cy="320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99320" y="4495680"/>
              <a:ext cx="1348200" cy="36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Net Inco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4411800" y="1447920"/>
            <a:ext cx="1631520" cy="2570040"/>
            <a:chOff x="4411800" y="1447920"/>
            <a:chExt cx="1631520" cy="2570040"/>
          </a:xfrm>
        </p:grpSpPr>
        <p:sp>
          <p:nvSpPr>
            <p:cNvPr id="132" name=""/>
            <p:cNvSpPr/>
            <p:nvPr/>
          </p:nvSpPr>
          <p:spPr>
            <a:xfrm>
              <a:off x="4572000" y="173196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4411800" y="1447920"/>
              <a:ext cx="1631520" cy="368280"/>
              <a:chOff x="4411800" y="1447920"/>
              <a:chExt cx="1631520" cy="368280"/>
            </a:xfrm>
          </p:grpSpPr>
          <p:sp>
            <p:nvSpPr>
              <p:cNvPr id="134" name=""/>
              <p:cNvSpPr/>
              <p:nvPr/>
            </p:nvSpPr>
            <p:spPr>
              <a:xfrm>
                <a:off x="4411800" y="1470240"/>
                <a:ext cx="320760" cy="3204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812480" y="1447920"/>
                <a:ext cx="1230840" cy="3682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ingle 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6" name=""/>
          <p:cNvGrpSpPr/>
          <p:nvPr/>
        </p:nvGrpSpPr>
        <p:grpSpPr>
          <a:xfrm>
            <a:off x="6380280" y="4287960"/>
            <a:ext cx="2226240" cy="971280"/>
            <a:chOff x="6380280" y="4287960"/>
            <a:chExt cx="2226240" cy="971280"/>
          </a:xfrm>
        </p:grpSpPr>
        <p:sp>
          <p:nvSpPr>
            <p:cNvPr id="137" name=""/>
            <p:cNvSpPr/>
            <p:nvPr/>
          </p:nvSpPr>
          <p:spPr>
            <a:xfrm>
              <a:off x="6380280" y="4287960"/>
              <a:ext cx="6858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6943680" y="4890960"/>
              <a:ext cx="1662840" cy="368280"/>
              <a:chOff x="6943680" y="4890960"/>
              <a:chExt cx="1662840" cy="368280"/>
            </a:xfrm>
          </p:grpSpPr>
          <p:sp>
            <p:nvSpPr>
              <p:cNvPr id="139" name=""/>
              <p:cNvSpPr/>
              <p:nvPr/>
            </p:nvSpPr>
            <p:spPr>
              <a:xfrm>
                <a:off x="6943680" y="4913280"/>
                <a:ext cx="320400" cy="32076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375680" y="4890960"/>
                <a:ext cx="1230840" cy="3682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ingle 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1" name=""/>
          <p:cNvGrpSpPr/>
          <p:nvPr/>
        </p:nvGrpSpPr>
        <p:grpSpPr>
          <a:xfrm>
            <a:off x="4876920" y="4551480"/>
            <a:ext cx="2710080" cy="1774800"/>
            <a:chOff x="4876920" y="4551480"/>
            <a:chExt cx="2710080" cy="1774800"/>
          </a:xfrm>
        </p:grpSpPr>
        <p:sp>
          <p:nvSpPr>
            <p:cNvPr id="142" name=""/>
            <p:cNvSpPr/>
            <p:nvPr/>
          </p:nvSpPr>
          <p:spPr>
            <a:xfrm>
              <a:off x="5035680" y="455148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4876920" y="5958000"/>
              <a:ext cx="2710080" cy="368280"/>
              <a:chOff x="4876920" y="5958000"/>
              <a:chExt cx="2710080" cy="368280"/>
            </a:xfrm>
          </p:grpSpPr>
          <p:sp>
            <p:nvSpPr>
              <p:cNvPr id="144" name=""/>
              <p:cNvSpPr/>
              <p:nvPr/>
            </p:nvSpPr>
            <p:spPr>
              <a:xfrm>
                <a:off x="4876920" y="5979960"/>
                <a:ext cx="320400" cy="3204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277240" y="5958000"/>
                <a:ext cx="2309760" cy="3682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alculate net inco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2895480" y="4495680"/>
            <a:ext cx="1865880" cy="901800"/>
            <a:chOff x="2895480" y="4495680"/>
            <a:chExt cx="1865880" cy="901800"/>
          </a:xfrm>
        </p:grpSpPr>
        <p:sp>
          <p:nvSpPr>
            <p:cNvPr id="147" name=""/>
            <p:cNvSpPr/>
            <p:nvPr/>
          </p:nvSpPr>
          <p:spPr>
            <a:xfrm>
              <a:off x="4038480" y="4495680"/>
              <a:ext cx="304920" cy="822600"/>
            </a:xfrm>
            <a:custGeom>
              <a:avLst/>
              <a:gdLst/>
              <a:ahLst/>
              <a:rect l="l" t="t" r="r" b="b"/>
              <a:pathLst>
                <a:path w="192" h="768">
                  <a:moveTo>
                    <a:pt x="192" y="0"/>
                  </a:moveTo>
                  <a:lnTo>
                    <a:pt x="0" y="0"/>
                  </a:lnTo>
                  <a:lnTo>
                    <a:pt x="0" y="7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2895480" y="5029200"/>
              <a:ext cx="1865880" cy="368280"/>
              <a:chOff x="2895480" y="5029200"/>
              <a:chExt cx="1865880" cy="368280"/>
            </a:xfrm>
          </p:grpSpPr>
          <p:sp>
            <p:nvSpPr>
              <p:cNvPr id="149" name=""/>
              <p:cNvSpPr/>
              <p:nvPr/>
            </p:nvSpPr>
            <p:spPr>
              <a:xfrm>
                <a:off x="2895480" y="5051520"/>
                <a:ext cx="320400" cy="3204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1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327840" y="5029200"/>
                <a:ext cx="1433520" cy="3682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ouble lin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1" name=""/>
          <p:cNvGrpSpPr/>
          <p:nvPr/>
        </p:nvGrpSpPr>
        <p:grpSpPr>
          <a:xfrm>
            <a:off x="5126040" y="4384800"/>
            <a:ext cx="2526840" cy="1434960"/>
            <a:chOff x="5126040" y="4384800"/>
            <a:chExt cx="2526840" cy="1434960"/>
          </a:xfrm>
        </p:grpSpPr>
        <p:sp>
          <p:nvSpPr>
            <p:cNvPr id="152" name=""/>
            <p:cNvSpPr/>
            <p:nvPr/>
          </p:nvSpPr>
          <p:spPr>
            <a:xfrm>
              <a:off x="5278320" y="4384800"/>
              <a:ext cx="304920" cy="1219320"/>
            </a:xfrm>
            <a:custGeom>
              <a:avLst/>
              <a:gdLst/>
              <a:ahLst/>
              <a:rect l="l" t="t" r="r" b="b"/>
              <a:pathLst>
                <a:path w="192" h="768">
                  <a:moveTo>
                    <a:pt x="192" y="0"/>
                  </a:moveTo>
                  <a:lnTo>
                    <a:pt x="0" y="0"/>
                  </a:lnTo>
                  <a:lnTo>
                    <a:pt x="0" y="7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5126040" y="5451480"/>
              <a:ext cx="2526840" cy="368280"/>
              <a:chOff x="5126040" y="5451480"/>
              <a:chExt cx="2526840" cy="368280"/>
            </a:xfrm>
          </p:grpSpPr>
          <p:sp>
            <p:nvSpPr>
              <p:cNvPr id="154" name=""/>
              <p:cNvSpPr/>
              <p:nvPr/>
            </p:nvSpPr>
            <p:spPr>
              <a:xfrm>
                <a:off x="5126040" y="5473800"/>
                <a:ext cx="320400" cy="3204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1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558040" y="5451480"/>
                <a:ext cx="2094840" cy="3682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ecord net inco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6" name=""/>
          <p:cNvGrpSpPr/>
          <p:nvPr/>
        </p:nvGrpSpPr>
        <p:grpSpPr>
          <a:xfrm>
            <a:off x="3051000" y="2376360"/>
            <a:ext cx="1823400" cy="368280"/>
            <a:chOff x="3051000" y="2376360"/>
            <a:chExt cx="1823400" cy="368280"/>
          </a:xfrm>
        </p:grpSpPr>
        <p:sp>
          <p:nvSpPr>
            <p:cNvPr id="157" name=""/>
            <p:cNvSpPr/>
            <p:nvPr/>
          </p:nvSpPr>
          <p:spPr>
            <a:xfrm>
              <a:off x="3051000" y="2398680"/>
              <a:ext cx="320760" cy="3204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50240" y="2376360"/>
              <a:ext cx="1424160" cy="36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count tit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-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47D7C-7B07-4449-AD97-CBA5C3F84394}" type="slidenum">
              <a:t>4</a:t>
            </a:fld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NENT PERCENTAGE ANALYSIS OF AN INCOME STAT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C21_blue_0705" descr=""/>
          <p:cNvPicPr/>
          <p:nvPr/>
        </p:nvPicPr>
        <p:blipFill>
          <a:blip r:embed="rId1"/>
          <a:srcRect l="0" t="2779" r="0" b="5856"/>
          <a:stretch/>
        </p:blipFill>
        <p:spPr>
          <a:xfrm>
            <a:off x="304920" y="1351080"/>
            <a:ext cx="8381880" cy="50292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18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-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41FA6-817A-49D5-A4B7-C3F6C5AFE462}" type="slidenum">
              <a:t>5</a:t>
            </a:fld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2073240" y="2043000"/>
            <a:ext cx="5484600" cy="3373200"/>
            <a:chOff x="2073240" y="2043000"/>
            <a:chExt cx="5484600" cy="3373200"/>
          </a:xfrm>
        </p:grpSpPr>
        <p:pic>
          <p:nvPicPr>
            <p:cNvPr id="163" name="C21_blue_0708" descr=""/>
            <p:cNvPicPr/>
            <p:nvPr/>
          </p:nvPicPr>
          <p:blipFill>
            <a:blip r:embed="rId1"/>
            <a:srcRect l="54790" t="19906" r="0" b="0"/>
            <a:stretch/>
          </p:blipFill>
          <p:spPr>
            <a:xfrm>
              <a:off x="4538160" y="2043000"/>
              <a:ext cx="3019680" cy="33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C21_blue_0708" descr=""/>
            <p:cNvPicPr/>
            <p:nvPr/>
          </p:nvPicPr>
          <p:blipFill>
            <a:blip r:embed="rId2"/>
            <a:srcRect l="0" t="19906" r="65477" b="0"/>
            <a:stretch/>
          </p:blipFill>
          <p:spPr>
            <a:xfrm>
              <a:off x="2073240" y="2043000"/>
              <a:ext cx="2305440" cy="337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ME STATEMENT WITH TWO SOURCES OF REVENUE AND A NET LO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1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39800" y="2347920"/>
            <a:ext cx="1492200" cy="368280"/>
            <a:chOff x="739800" y="2347920"/>
            <a:chExt cx="1492200" cy="368280"/>
          </a:xfrm>
        </p:grpSpPr>
        <p:sp>
          <p:nvSpPr>
            <p:cNvPr id="168" name=""/>
            <p:cNvSpPr/>
            <p:nvPr/>
          </p:nvSpPr>
          <p:spPr>
            <a:xfrm>
              <a:off x="1911240" y="2370240"/>
              <a:ext cx="320760" cy="3204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9800" y="2347920"/>
              <a:ext cx="1092240" cy="36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ven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5889600" y="2805120"/>
            <a:ext cx="2462760" cy="368280"/>
            <a:chOff x="5889600" y="2805120"/>
            <a:chExt cx="2462760" cy="368280"/>
          </a:xfrm>
        </p:grpSpPr>
        <p:sp>
          <p:nvSpPr>
            <p:cNvPr id="171" name=""/>
            <p:cNvSpPr/>
            <p:nvPr/>
          </p:nvSpPr>
          <p:spPr>
            <a:xfrm>
              <a:off x="5889600" y="2827440"/>
              <a:ext cx="320400" cy="320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321600" y="2805120"/>
              <a:ext cx="2030760" cy="36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venue amou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83040" y="2805120"/>
            <a:ext cx="1978920" cy="368280"/>
            <a:chOff x="383040" y="2805120"/>
            <a:chExt cx="1978920" cy="368280"/>
          </a:xfrm>
        </p:grpSpPr>
        <p:sp>
          <p:nvSpPr>
            <p:cNvPr id="174" name=""/>
            <p:cNvSpPr/>
            <p:nvPr/>
          </p:nvSpPr>
          <p:spPr>
            <a:xfrm>
              <a:off x="2041200" y="2827440"/>
              <a:ext cx="320760" cy="3204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3040" y="2805120"/>
              <a:ext cx="1538640" cy="36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count tit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710280" y="4710240"/>
            <a:ext cx="1521720" cy="368280"/>
            <a:chOff x="710280" y="4710240"/>
            <a:chExt cx="1521720" cy="368280"/>
          </a:xfrm>
        </p:grpSpPr>
        <p:sp>
          <p:nvSpPr>
            <p:cNvPr id="177" name=""/>
            <p:cNvSpPr/>
            <p:nvPr/>
          </p:nvSpPr>
          <p:spPr>
            <a:xfrm>
              <a:off x="1911600" y="4732200"/>
              <a:ext cx="320400" cy="3204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10280" y="4710240"/>
              <a:ext cx="1081440" cy="36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Net Lo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441680" y="4917960"/>
            <a:ext cx="2311200" cy="1241280"/>
            <a:chOff x="4441680" y="4917960"/>
            <a:chExt cx="2311200" cy="1241280"/>
          </a:xfrm>
        </p:grpSpPr>
        <p:sp>
          <p:nvSpPr>
            <p:cNvPr id="180" name=""/>
            <p:cNvSpPr/>
            <p:nvPr/>
          </p:nvSpPr>
          <p:spPr>
            <a:xfrm>
              <a:off x="4593960" y="4917960"/>
              <a:ext cx="1446120" cy="1219320"/>
            </a:xfrm>
            <a:custGeom>
              <a:avLst/>
              <a:gdLst/>
              <a:ahLst/>
              <a:rect l="l" t="t" r="r" b="b"/>
              <a:pathLst>
                <a:path w="192" h="768">
                  <a:moveTo>
                    <a:pt x="192" y="0"/>
                  </a:moveTo>
                  <a:lnTo>
                    <a:pt x="0" y="0"/>
                  </a:lnTo>
                  <a:lnTo>
                    <a:pt x="0" y="7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4441680" y="5790960"/>
              <a:ext cx="2311200" cy="368280"/>
              <a:chOff x="4441680" y="5790960"/>
              <a:chExt cx="2311200" cy="368280"/>
            </a:xfrm>
          </p:grpSpPr>
          <p:sp>
            <p:nvSpPr>
              <p:cNvPr id="182" name=""/>
              <p:cNvSpPr/>
              <p:nvPr/>
            </p:nvSpPr>
            <p:spPr>
              <a:xfrm>
                <a:off x="4441680" y="5813280"/>
                <a:ext cx="320400" cy="3204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872960" y="5790960"/>
                <a:ext cx="1879920" cy="3682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ecord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Net Los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" name=""/>
          <p:cNvGrpSpPr/>
          <p:nvPr/>
        </p:nvGrpSpPr>
        <p:grpSpPr>
          <a:xfrm>
            <a:off x="3679920" y="1600200"/>
            <a:ext cx="2586960" cy="1738440"/>
            <a:chOff x="3679920" y="1600200"/>
            <a:chExt cx="2586960" cy="1738440"/>
          </a:xfrm>
        </p:grpSpPr>
        <p:sp>
          <p:nvSpPr>
            <p:cNvPr id="185" name=""/>
            <p:cNvSpPr/>
            <p:nvPr/>
          </p:nvSpPr>
          <p:spPr>
            <a:xfrm>
              <a:off x="3679920" y="1814400"/>
              <a:ext cx="609480" cy="1524240"/>
            </a:xfrm>
            <a:custGeom>
              <a:avLst/>
              <a:gdLst/>
              <a:ahLst/>
              <a:rect l="l" t="t" r="r" b="b"/>
              <a:pathLst>
                <a:path w="384" h="960">
                  <a:moveTo>
                    <a:pt x="0" y="960"/>
                  </a:moveTo>
                  <a:lnTo>
                    <a:pt x="384" y="960"/>
                  </a:lnTo>
                  <a:lnTo>
                    <a:pt x="38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4137120" y="1600200"/>
              <a:ext cx="2129760" cy="368280"/>
              <a:chOff x="4137120" y="1600200"/>
              <a:chExt cx="2129760" cy="368280"/>
            </a:xfrm>
          </p:grpSpPr>
          <p:sp>
            <p:nvSpPr>
              <p:cNvPr id="187" name=""/>
              <p:cNvSpPr/>
              <p:nvPr/>
            </p:nvSpPr>
            <p:spPr>
              <a:xfrm>
                <a:off x="4137120" y="1622520"/>
                <a:ext cx="320400" cy="32076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603320" y="1600200"/>
                <a:ext cx="1663560" cy="3682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Total Revenu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9" name=""/>
          <p:cNvGrpSpPr/>
          <p:nvPr/>
        </p:nvGrpSpPr>
        <p:grpSpPr>
          <a:xfrm>
            <a:off x="6423120" y="3429000"/>
            <a:ext cx="2260800" cy="687240"/>
            <a:chOff x="6423120" y="3429000"/>
            <a:chExt cx="2260800" cy="687240"/>
          </a:xfrm>
        </p:grpSpPr>
        <p:sp>
          <p:nvSpPr>
            <p:cNvPr id="190" name=""/>
            <p:cNvSpPr/>
            <p:nvPr/>
          </p:nvSpPr>
          <p:spPr>
            <a:xfrm>
              <a:off x="6575400" y="34290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6423120" y="3747960"/>
              <a:ext cx="2260800" cy="368280"/>
              <a:chOff x="6423120" y="3747960"/>
              <a:chExt cx="2260800" cy="368280"/>
            </a:xfrm>
          </p:grpSpPr>
          <p:sp>
            <p:nvSpPr>
              <p:cNvPr id="192" name=""/>
              <p:cNvSpPr/>
              <p:nvPr/>
            </p:nvSpPr>
            <p:spPr>
              <a:xfrm>
                <a:off x="6423120" y="3770280"/>
                <a:ext cx="320400" cy="32076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854400" y="3747960"/>
                <a:ext cx="1829520" cy="3682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otal of revenu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-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8593F-466A-439A-9CFE-6470D9B4E5E0}" type="slidenum">
              <a:t>6</a:t>
            </a:fld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S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 perce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1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-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8DFA5-D388-4884-A781-BF006C898404}" type="slidenum">
              <a:t>7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23:24:04Z</dcterms:created>
  <dc:creator>M. C. McLaughlin</dc:creator>
  <dc:description/>
  <dc:language>en-US</dc:language>
  <cp:lastModifiedBy>M. C. McLaughlin</cp:lastModifiedBy>
  <dcterms:modified xsi:type="dcterms:W3CDTF">2005-04-22T22:03:24Z</dcterms:modified>
  <cp:revision>21</cp:revision>
  <dc:subject/>
  <dc:title>Lesson 7-1</dc:title>
</cp:coreProperties>
</file>